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035C-B635-4FC5-B865-1F51F5C41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AFA-4170-4212-9C2F-5E37C495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359-4A1C-4CFB-869B-D2328282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899-46ED-4291-9813-8EA3A978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FF6-DEB3-43F5-BB53-74721FE2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B5F-F495-43B4-9831-B90F2BBF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E1D-4EFE-41F4-8BF6-DFBD199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D41-135F-404D-8898-61C0DE6A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CF7-5490-4954-B3F3-46206A9A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D50-B7C6-4ADE-8356-52A9476E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99F-847C-4E55-8CE1-2ECE6E2C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0BD-C267-455C-89C3-C04CAFE7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312-FE14-4D19-859A-DFF9623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58A-5739-416E-9559-11F2BAAF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3802-9F71-49F0-BFFD-49A37ED2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shmi Sar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2362320" y="8763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Rashmi. Yo vivo en Nueva York. Tengo quince años. Tengo dos hermanas. Muy bueno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ándo nos vemos ?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haciendo mi tarea de escuela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ein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estas haciend 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 sábado a las 4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 te extraño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iós por ahora y yo te veré mañana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res tu amiga 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40:33Z</dcterms:created>
  <dc:creator>FriscoISD</dc:creator>
  <dc:description/>
  <dc:language>en-US</dc:language>
  <cp:lastModifiedBy>User</cp:lastModifiedBy>
  <dcterms:modified xsi:type="dcterms:W3CDTF">2012-12-07T14:52:25Z</dcterms:modified>
  <cp:revision>105</cp:revision>
  <dc:subject/>
  <dc:title>Profile</dc:title>
</cp:coreProperties>
</file>